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4A70-FF3B-4A58-B949-6910C798B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5A86-556C-4F4B-A574-F7249292F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7C53-8369-40AF-AF34-5139F2460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Identify criteria for judging whether behavior is psychologically disor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BB57-7E39-4080-B6A8-5E42D30B3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2D90-7811-48BF-8238-097C5821E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Contrast the medical model of psychological disorders with the biopsychosocial perspective on disordere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F0B9-C5A2-44B4-9721-4818DD217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2350-DE2D-4A99-B0CA-87373B0A3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BB1A-635B-4B54-B5C8-4CE0C3398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5A49-CA67-4FF0-8695-2BD9BB0DB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goals and content of the DSM-I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983F-4300-4C0D-AC8B-AB1F90929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FB43-9154-4368-ADCD-E017140BD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3A35-C589-4F89-BC29-BF206B19A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D054-FC95-42B2-89F8-36AE9BA71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A793-34CD-4DA8-9462-F6C77E79B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A0B5-C570-4EFF-AD32-807F50F9B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potential dangers and benefits of using diagnostic lab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99EC-24DE-4AF8-8722-5008A3DFD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F1DC-51E2-4706-96CA-9DB579622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4210-8345-42FE-AACC-902CB6031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fin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xiety disord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explain how this condition differs from normal feelings of stress, tension, or unea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331A-71BA-4838-88EF-056E38680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Contrast the symptoms of generalized anxiety disorder and panic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FDDF-35D0-459D-B9C7-991AA9C73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D3D7-4CBA-4C2B-9441-B521A4F14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7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Explain how a phobia differs from fears we all exper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F8BD-DDB4-46E4-BA6C-F59160161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4BFA-3577-43C9-A7C4-A988F81E3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symptoms of obsessive-compulsive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4D50-EC09-404B-A871-8DF2FCAA1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FD0F-561F-44AB-A3A7-0043D4F8C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CF5D-9B21-4956-951F-515AD6738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symptoms of post-traumatic stress disorder, and discuss survivor resil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7132-D732-4CF1-80A6-0381FD0B8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7438-3E36-4F0C-A917-292E72D4B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contributions of the learning and biological perspectives to our understanding of the development of anxiety dis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4CFB-5D38-4497-9788-EE7BEB6EB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1CF5-B6D0-4630-AD52-2B6B85FCF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684B-19DB-4627-8149-ADA365101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6B81-1757-4B17-8551-C8A00E9DD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6E90-4DF5-4561-AB04-191A104BC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symptoms of dissociative disorders, and explain why some critics are skeptical about dissociative identity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2678-37E2-46AE-890F-32E5D1F5A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4E75-692D-481A-8260-6D7CE9557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C1F1-8A23-426E-B648-6A9F5077E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87DA-CB2D-4EA9-A918-3465766E0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BCF5-5E49-4E39-B208-B028F3E69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E618-0862-4505-A994-BF7B1393A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EDF6-3093-4775-A8A5-EBA1201C2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DF84-F313-43B4-B891-7097A46A3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D76-BBDE-4945-AF72-A5213C11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AD1-D598-4AC4-851E-6F909791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3F9-012E-43BA-BF79-536C2E6A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80C-4CFA-45B4-85AB-20802295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8D2-A78E-4FE6-ACBB-5BFB07D0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A86-744F-472F-A87D-FDC47588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BD9-AD82-48CD-B8DA-CBFBCB2D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961-343D-4E53-ACA0-C3929C8C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710-FF83-4402-AAC0-1D5960D2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96C-595C-41FD-AC49-9FAACEC8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B39-8A5C-4954-ADF3-3EC2EBCB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4B0-8330-4CEC-9EAC-4063CB17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DDEA-EAA1-41FD-8B1D-806AE96FB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517D-A367-478D-9D42-DA366F853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8th Edition)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_oval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5E7D-CF4E-407D-A230-BE5CC4179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efin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ntal health workers view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sychological disorder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s persistently harmful thoughts, feelings, and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71400" y="3505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behavior is 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deviant, distressful, and dysfunctional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psychiatrists and psychologists label it as disordered (Comer, 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1AED-62C7-4EE5-BF25-25C5EFCDC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eviant, Distressful &amp; Dysfunc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Deviant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behavior (going naked) in one culture may be considered normal, while in others it may lead to arr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Deviant behavior must accompany </a:t>
            </a: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distress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If a behavior is </a:t>
            </a: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dysfunctional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it is clearly a dis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yersPsy8e_16UN01"/>
          <p:cNvPicPr/>
          <p:nvPr/>
        </p:nvPicPr>
        <p:blipFill>
          <a:blip r:embed="rId1"/>
          <a:stretch/>
        </p:blipFill>
        <p:spPr>
          <a:xfrm>
            <a:off x="4876920" y="1582560"/>
            <a:ext cx="3809880" cy="314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013360" y="4765680"/>
            <a:ext cx="344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n the Wodaabe tribe men wear costumes to attract women. In Western society this would be considered ab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 rot="5400000">
            <a:off x="8317080" y="414936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ol Beck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2234-A9CC-4C8C-9F13-D0619F68B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1600" y="1676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ncient Treatments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f psychological disorders include trephination, exorcism, being caged like animals, being beaten, burned, castrated, mutilated, or transfused with animal’s bl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yersPsy8e_16UN03"/>
          <p:cNvPicPr/>
          <p:nvPr/>
        </p:nvPicPr>
        <p:blipFill>
          <a:blip r:embed="rId1"/>
          <a:stretch/>
        </p:blipFill>
        <p:spPr>
          <a:xfrm>
            <a:off x="3513240" y="3505320"/>
            <a:ext cx="2111400" cy="2666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79400" y="6248520"/>
            <a:ext cx="75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rephination (boring holes in the skull to remove evil for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 rot="5400000">
            <a:off x="5361840" y="452484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hn W. Ver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85FF-A28B-4E0A-8EA9-5A5E42410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ed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876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ilippe Pinel (1745-1826) from France, insisted that madness was not due to demonic possession, but an ailment of the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yersPsy8e_16UN04"/>
          <p:cNvPicPr/>
          <p:nvPr/>
        </p:nvPicPr>
        <p:blipFill>
          <a:blip r:embed="rId1"/>
          <a:stretch/>
        </p:blipFill>
        <p:spPr>
          <a:xfrm>
            <a:off x="2571840" y="3048120"/>
            <a:ext cx="3976560" cy="3112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015000" y="6248520"/>
            <a:ext cx="30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ance in the madho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 rot="5400000">
            <a:off x="5131080" y="4648320"/>
            <a:ext cx="3029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eorge Wesley Bellows, </a:t>
            </a: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Dancer in a Madhous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1907. © 1997 The Art Institute of Chicag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7E6F-9A09-43D1-91CB-3A39AF0D6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edic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physicians discovered that syphilis led to mental disorders, they started using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medical model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to review the physical causes of these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961920" y="3429000"/>
            <a:ext cx="7177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Etiolog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Cause and development of the dis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Diagnosis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dentifying (symptoms) and distinguishing one disease from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Treatment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reating a disorder in a psychiatric hos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Prognosis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Forecast about the dis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B6E0-F28B-415C-9A2F-840C8482B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opsychosoci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MyersPsy8e_fig"/>
          <p:cNvPicPr/>
          <p:nvPr/>
        </p:nvPicPr>
        <p:blipFill>
          <a:blip r:embed="rId1"/>
          <a:stretch/>
        </p:blipFill>
        <p:spPr>
          <a:xfrm>
            <a:off x="1819440" y="3152880"/>
            <a:ext cx="5473440" cy="3547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276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ssumes that biological, socio-cultural, and psychological factors combine and interact to produce psychological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2869-8FCD-4141-BE03-34F5C32CE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assify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American Psychiatric Association rendered a Diagnostic and Statistical Manual of Mental Disorders (DSM) to describe psychological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7140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most recent edition, DSM-IV-TR (Text Revision, 2000), describes 400 psychological disorders compared to 60 in the 195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52EA-4C71-46AC-8F43-79DD27491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ultiaxial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2200320" y="4367160"/>
            <a:ext cx="641016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re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Psychosocial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r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Environmental Problem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school or housing issues) also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762120" y="4367160"/>
            <a:ext cx="137160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200320" y="5264280"/>
            <a:ext cx="6410160" cy="9842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at is the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Global Assessmen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f the person’s 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62120" y="5264280"/>
            <a:ext cx="1371600" cy="9842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200320" y="3422520"/>
            <a:ext cx="6410160" cy="86832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 a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General Medical Condi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diabetes, hypertension or arthritis etc) also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762120" y="3422520"/>
            <a:ext cx="1371600" cy="86832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200320" y="2514600"/>
            <a:ext cx="641016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 a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r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Mental Retarda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762120" y="2514600"/>
            <a:ext cx="137160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200320" y="1617840"/>
            <a:ext cx="6410160" cy="8204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 a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Clinical Syndrom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cognitive, anxiety, mood disorders [16 syndromes])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62120" y="1617840"/>
            <a:ext cx="1371600" cy="8204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519120" y="1566720"/>
            <a:ext cx="168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519120" y="5881680"/>
            <a:ext cx="168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519120" y="15667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8610480" y="15667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0"/>
          <p:cNvSpPr/>
          <p:nvPr/>
        </p:nvSpPr>
        <p:spPr>
          <a:xfrm>
            <a:off x="2200320" y="1566720"/>
            <a:ext cx="641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1"/>
          <p:cNvSpPr/>
          <p:nvPr/>
        </p:nvSpPr>
        <p:spPr>
          <a:xfrm>
            <a:off x="519120" y="23875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3"/>
          <p:cNvSpPr/>
          <p:nvPr/>
        </p:nvSpPr>
        <p:spPr>
          <a:xfrm>
            <a:off x="8610480" y="23875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5"/>
          <p:cNvSpPr/>
          <p:nvPr/>
        </p:nvSpPr>
        <p:spPr>
          <a:xfrm>
            <a:off x="519120" y="3208320"/>
            <a:ext cx="0" cy="86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7"/>
          <p:cNvSpPr/>
          <p:nvPr/>
        </p:nvSpPr>
        <p:spPr>
          <a:xfrm>
            <a:off x="8610480" y="3208320"/>
            <a:ext cx="0" cy="86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9"/>
          <p:cNvSpPr/>
          <p:nvPr/>
        </p:nvSpPr>
        <p:spPr>
          <a:xfrm>
            <a:off x="519120" y="407664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1"/>
          <p:cNvSpPr/>
          <p:nvPr/>
        </p:nvSpPr>
        <p:spPr>
          <a:xfrm>
            <a:off x="8610480" y="407664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3"/>
          <p:cNvSpPr/>
          <p:nvPr/>
        </p:nvSpPr>
        <p:spPr>
          <a:xfrm>
            <a:off x="519120" y="4897440"/>
            <a:ext cx="0" cy="98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55"/>
          <p:cNvSpPr/>
          <p:nvPr/>
        </p:nvSpPr>
        <p:spPr>
          <a:xfrm>
            <a:off x="8610480" y="4897440"/>
            <a:ext cx="0" cy="98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7"/>
          <p:cNvSpPr/>
          <p:nvPr/>
        </p:nvSpPr>
        <p:spPr>
          <a:xfrm>
            <a:off x="2200320" y="5881680"/>
            <a:ext cx="641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203F-B9CC-462B-8D82-8AEDF44BC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ultiaxial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MyersPsy8e_Table"/>
          <p:cNvPicPr/>
          <p:nvPr/>
        </p:nvPicPr>
        <p:blipFill>
          <a:blip r:embed="rId1"/>
          <a:srcRect l="0" t="20345" r="0" b="0"/>
          <a:stretch/>
        </p:blipFill>
        <p:spPr>
          <a:xfrm>
            <a:off x="671400" y="1986120"/>
            <a:ext cx="7772400" cy="4338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1886040" y="1447920"/>
            <a:ext cx="53481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te 16 syndromes in Ax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8480-8D10-4066-94CD-A81DC07AA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ultiaxial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MyersPsy8e_Table"/>
          <p:cNvPicPr/>
          <p:nvPr/>
        </p:nvPicPr>
        <p:blipFill>
          <a:blip r:embed="rId1"/>
          <a:stretch/>
        </p:blipFill>
        <p:spPr>
          <a:xfrm>
            <a:off x="671400" y="2133720"/>
            <a:ext cx="7769160" cy="3728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1009800" y="1447920"/>
            <a:ext cx="710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te Global Assessment for Axis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95CF-B9C9-4CE9-936B-E336273B5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2224080"/>
            <a:ext cx="7681680" cy="31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MyersPsy8e_CO16"/>
          <p:cNvPicPr/>
          <p:nvPr/>
        </p:nvPicPr>
        <p:blipFill>
          <a:blip r:embed="rId1"/>
          <a:stretch/>
        </p:blipFill>
        <p:spPr>
          <a:xfrm>
            <a:off x="422280" y="380880"/>
            <a:ext cx="13208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E650-093F-4478-9BAA-D1D1AC91B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oals of D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47440" y="160020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scribe (400) dis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termine how prevalent the disorder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71400" y="28954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orders outlined by DSM-IV are reliable. Therefore, diagnoses by different professionals are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71400" y="468648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thers criticize DSM-IV for “putting any kind of behavior within the compass of psychiatr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A4D4-601B-448A-87AD-E007EEE4F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itics of the DSM-IV argue that labels may stigmatize individu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MyersPsy8e_16UN08"/>
          <p:cNvPicPr/>
          <p:nvPr/>
        </p:nvPicPr>
        <p:blipFill>
          <a:blip r:embed="rId1"/>
          <a:stretch/>
        </p:blipFill>
        <p:spPr>
          <a:xfrm>
            <a:off x="2305080" y="2743200"/>
            <a:ext cx="4495680" cy="35496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526120" y="628488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sylum baseball team (label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 rot="5400000">
            <a:off x="5399280" y="467064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izabeth Eckert, Middletown, NY. From L. Gamwell 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. Tomes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Madness in America,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95. Cornell University Pres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2B6C-3F3B-4FC9-828E-BB7E7E921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bels may be helpful for healthcare professionals when communicating with one another and establishing thera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C0FE-1E43-4280-BA90-46DD9AD41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“Insanity” labels raise moral and ethical questions about how society should treat people who have disorders and have committed cr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MyersPsy8e_16UN10"/>
          <p:cNvPicPr/>
          <p:nvPr/>
        </p:nvPicPr>
        <p:blipFill>
          <a:blip r:embed="rId1"/>
          <a:srcRect l="0" t="0" r="0" b="35795"/>
          <a:stretch/>
        </p:blipFill>
        <p:spPr>
          <a:xfrm>
            <a:off x="5029200" y="1600200"/>
            <a:ext cx="3675240" cy="43718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5591520" y="5972040"/>
            <a:ext cx="2632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odore Kaczyn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Unabomb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5400000">
            <a:off x="8004960" y="5029200"/>
            <a:ext cx="164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aine Thompson/ AP Pho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CFF7-4AF8-4623-BA13-BD407688C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nxiety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eelings of excessive apprehension and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600200" y="297180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ized anxiety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nic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bsessive-compulsive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4EC3-D5CB-4074-83F6-92410FF27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ized Anxiety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4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istent and uncontrollable tenseness and apprehen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671400" y="3581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utonomic arou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71400" y="4114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ability to identify or avoid the cause of certain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559320" y="1866960"/>
            <a:ext cx="19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92A0-BC05-43DD-93A2-765A0E30B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anic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140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inute-long episodes of intense dread which may include feelings of terror, chest pains, choking, or other frightening sens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71400" y="44956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xiety is a component of both disorders. It occurs more in the panic disorder, making people avoid situations that caus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559320" y="1866960"/>
            <a:ext cx="19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6CFF-A906-44E9-B436-7DE24989A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hob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160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rked by a persistent and irrational fear of an object or situation that disrupts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MyersPsy8e_fig"/>
          <p:cNvPicPr/>
          <p:nvPr/>
        </p:nvPicPr>
        <p:blipFill>
          <a:blip r:embed="rId1"/>
          <a:stretch/>
        </p:blipFill>
        <p:spPr>
          <a:xfrm>
            <a:off x="595440" y="2971800"/>
            <a:ext cx="79246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DA5A-E22A-4D64-8B09-76F2A1217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Kinds of Phob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46"/>
          <p:cNvSpPr/>
          <p:nvPr/>
        </p:nvSpPr>
        <p:spPr>
          <a:xfrm>
            <a:off x="3933720" y="4572000"/>
            <a:ext cx="429588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bl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45"/>
          <p:cNvSpPr/>
          <p:nvPr/>
        </p:nvSpPr>
        <p:spPr>
          <a:xfrm>
            <a:off x="961920" y="4572000"/>
            <a:ext cx="283392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emo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44"/>
          <p:cNvSpPr/>
          <p:nvPr/>
        </p:nvSpPr>
        <p:spPr>
          <a:xfrm>
            <a:off x="3933720" y="3581280"/>
            <a:ext cx="4295880" cy="838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closed sp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43"/>
          <p:cNvSpPr/>
          <p:nvPr/>
        </p:nvSpPr>
        <p:spPr>
          <a:xfrm>
            <a:off x="961920" y="3581280"/>
            <a:ext cx="2833920" cy="838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austro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42"/>
          <p:cNvSpPr/>
          <p:nvPr/>
        </p:nvSpPr>
        <p:spPr>
          <a:xfrm>
            <a:off x="3933720" y="2590920"/>
            <a:ext cx="429588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h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41"/>
          <p:cNvSpPr/>
          <p:nvPr/>
        </p:nvSpPr>
        <p:spPr>
          <a:xfrm>
            <a:off x="961920" y="2590920"/>
            <a:ext cx="283392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ro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0"/>
          <p:cNvSpPr/>
          <p:nvPr/>
        </p:nvSpPr>
        <p:spPr>
          <a:xfrm>
            <a:off x="3933720" y="1600200"/>
            <a:ext cx="429588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open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39"/>
          <p:cNvSpPr/>
          <p:nvPr/>
        </p:nvSpPr>
        <p:spPr>
          <a:xfrm>
            <a:off x="961920" y="1600200"/>
            <a:ext cx="283392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gora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47"/>
          <p:cNvSpPr/>
          <p:nvPr/>
        </p:nvSpPr>
        <p:spPr>
          <a:xfrm>
            <a:off x="671400" y="1981080"/>
            <a:ext cx="2833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51"/>
          <p:cNvSpPr/>
          <p:nvPr/>
        </p:nvSpPr>
        <p:spPr>
          <a:xfrm>
            <a:off x="671400" y="5334120"/>
            <a:ext cx="2833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52"/>
          <p:cNvSpPr/>
          <p:nvPr/>
        </p:nvSpPr>
        <p:spPr>
          <a:xfrm>
            <a:off x="671400" y="19810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54"/>
          <p:cNvSpPr/>
          <p:nvPr/>
        </p:nvSpPr>
        <p:spPr>
          <a:xfrm>
            <a:off x="8458200" y="19810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67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68"/>
          <p:cNvSpPr/>
          <p:nvPr/>
        </p:nvSpPr>
        <p:spPr>
          <a:xfrm>
            <a:off x="671400" y="28195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70"/>
          <p:cNvSpPr/>
          <p:nvPr/>
        </p:nvSpPr>
        <p:spPr>
          <a:xfrm>
            <a:off x="8458200" y="28195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72"/>
          <p:cNvSpPr/>
          <p:nvPr/>
        </p:nvSpPr>
        <p:spPr>
          <a:xfrm>
            <a:off x="671400" y="365760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74"/>
          <p:cNvSpPr/>
          <p:nvPr/>
        </p:nvSpPr>
        <p:spPr>
          <a:xfrm>
            <a:off x="8458200" y="365760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76"/>
          <p:cNvSpPr/>
          <p:nvPr/>
        </p:nvSpPr>
        <p:spPr>
          <a:xfrm>
            <a:off x="671400" y="44956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78"/>
          <p:cNvSpPr/>
          <p:nvPr/>
        </p:nvSpPr>
        <p:spPr>
          <a:xfrm>
            <a:off x="8458200" y="44956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80"/>
          <p:cNvSpPr/>
          <p:nvPr/>
        </p:nvSpPr>
        <p:spPr>
          <a:xfrm>
            <a:off x="3505320" y="5334120"/>
            <a:ext cx="495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8734-5964-456F-8880-E0190F89B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Obsessive-Compulsive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istence of unwanted thoughts (obsessions) and urges to engage in senseless rituals (compulsions) that cause di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MyersPsy8e_Table"/>
          <p:cNvPicPr/>
          <p:nvPr/>
        </p:nvPicPr>
        <p:blipFill>
          <a:blip r:embed="rId1"/>
          <a:stretch/>
        </p:blipFill>
        <p:spPr>
          <a:xfrm>
            <a:off x="838080" y="3200400"/>
            <a:ext cx="76201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E09F-44FD-4C1B-908F-9F8743FF0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0880" y="1595160"/>
            <a:ext cx="656244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erspectives on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fin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assify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E77D-A5F9-4408-84E1-5958CB8B6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880" y="1585440"/>
            <a:ext cx="419112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PET scan of the brain of a person with Obsessive-Compulsive Disorder (OCD). High metabolic activity (red) in the frontal lobe areas are involved with directing att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" descr="15-3"/>
          <p:cNvPicPr/>
          <p:nvPr/>
        </p:nvPicPr>
        <p:blipFill>
          <a:blip r:embed="rId1"/>
          <a:stretch/>
        </p:blipFill>
        <p:spPr>
          <a:xfrm>
            <a:off x="5014800" y="1585800"/>
            <a:ext cx="3721320" cy="43228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714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rain Ima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5345280" y="59245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Brain image of an O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84FE-79C7-4A36-8A8C-F3F84B460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ost-Traumatic Stress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 or more weeks of the following symptoms constitute post-traumatic stress disorder (PTS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609480" y="32767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aunting mem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609480" y="38098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ightm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623880" y="4329000"/>
            <a:ext cx="39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ocial withdraw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619200" y="4876920"/>
            <a:ext cx="3267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Jumpy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609480" y="5486400"/>
            <a:ext cx="381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leep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6" descr="MyersPsy8e_16UN13 Copy"/>
          <p:cNvPicPr/>
          <p:nvPr/>
        </p:nvPicPr>
        <p:blipFill>
          <a:blip r:embed="rId1"/>
          <a:srcRect l="0" t="10697" r="0" b="0"/>
          <a:stretch/>
        </p:blipFill>
        <p:spPr>
          <a:xfrm>
            <a:off x="4876920" y="3048120"/>
            <a:ext cx="3809880" cy="3114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8"/>
          <p:cNvSpPr/>
          <p:nvPr/>
        </p:nvSpPr>
        <p:spPr>
          <a:xfrm rot="5400000">
            <a:off x="8267760" y="5498280"/>
            <a:ext cx="10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ttmann/ 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2D78-2B13-45B4-A339-F2AFEF708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esilience to PTS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nly about 10% of women and 20% of men react to traumatic situations and develop PTS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671400" y="3124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locaust survivors show remarkable resilience against traumatic situ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685800" y="4572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l major religions of the world suggest that surviving a trauma leads to the growth of an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D3A8-1D14-4152-8375-429B7204D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laining Anxiety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reud suggested that we repress our painful and intolerable ideas, feelings, and thoughts, resulting in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C7F5-C8AD-4A6C-8942-FC3D9D259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Learning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671400" y="1600200"/>
            <a:ext cx="39006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arning theorists suggest that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ear conditio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leads to anxiety. This anxiety then becomes associated with other objects or events (stimulus generalization) and is reinfor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4" descr="MyersPsy8e_16UN14"/>
          <p:cNvPicPr/>
          <p:nvPr/>
        </p:nvPicPr>
        <p:blipFill>
          <a:blip r:embed="rId1"/>
          <a:stretch/>
        </p:blipFill>
        <p:spPr>
          <a:xfrm>
            <a:off x="5386320" y="1600200"/>
            <a:ext cx="3057480" cy="457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 rot="5400000">
            <a:off x="7775640" y="526032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hn Coletti/ Stock, Bo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ED8A-1D13-4775-9AF4-90D09E95F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Learning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09480" y="1600200"/>
            <a:ext cx="78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vestigators believe that fear responses are inculcated throug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observational lear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 Young monkeys develop fear when they watch other monkeys who are afraid of sna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2A3E-16E4-470C-82F0-454B6BCCA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Biolog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609480" y="1600200"/>
            <a:ext cx="78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atural Selec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has led our ancestors to learn to fear snakes, spiders, and other animals. Therefore, fear preserves the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609480" y="3962520"/>
            <a:ext cx="78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win studies suggest that our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may be partly responsible for developing fears and anxiety. Twins are more likely to share   phob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9F5D-9358-414C-9084-A24A42C8C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Biolog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57200" y="1600200"/>
            <a:ext cx="3900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ized anxiety, panic attacks, and even OCD are linked wit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circuits like the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anterior cingulate co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7" descr="MyersPsy8e_fig"/>
          <p:cNvPicPr/>
          <p:nvPr/>
        </p:nvPicPr>
        <p:blipFill>
          <a:blip r:embed="rId1"/>
          <a:stretch/>
        </p:blipFill>
        <p:spPr>
          <a:xfrm>
            <a:off x="4800600" y="1625760"/>
            <a:ext cx="4013280" cy="34034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9"/>
          <p:cNvSpPr/>
          <p:nvPr/>
        </p:nvSpPr>
        <p:spPr>
          <a:xfrm>
            <a:off x="5174640" y="5051520"/>
            <a:ext cx="32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nterior Cingulate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f an OCD pat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 rot="5400000">
            <a:off x="7040880" y="3165120"/>
            <a:ext cx="384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. Ursu, V.A. Stenger, M.K. Shear, M.R. Jones, &amp; C.S. Carter (2003). Overactive a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nitoring in obsessive-compulsive disorder.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Psychological Science, 14,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347-35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3928-FBA5-480F-8B56-1201F749D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issociative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nscious awareness becomes separated (dissociated) from previous memories, thoughts, and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573360" y="3505320"/>
            <a:ext cx="19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1447920" y="415296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aving a sense of being un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447920" y="468648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ing separated from 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1461960" y="5205240"/>
            <a:ext cx="69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atching yourself as if in a mov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B6D7-1E19-45D4-BF98-0F45653AD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sociative Identity Disorder (DI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a disorder in which a person exhibits two or more distinct and alternating personalities, formerly called multiple personality dis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4" descr="MyersPsy8e_16UN15"/>
          <p:cNvPicPr/>
          <p:nvPr/>
        </p:nvPicPr>
        <p:blipFill>
          <a:blip r:embed="rId1"/>
          <a:stretch/>
        </p:blipFill>
        <p:spPr>
          <a:xfrm>
            <a:off x="2500200" y="3246480"/>
            <a:ext cx="4114800" cy="2925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3196800" y="619452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hris Sizemore (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 rot="5400000">
            <a:off x="5850000" y="5182920"/>
            <a:ext cx="177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is Bernstein/ Gamma Lia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82A3-383D-4C32-AE25-CBE5D1402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80880" y="1595160"/>
            <a:ext cx="656244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Anxiety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ized Anxiety Disorder and Panic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bsessive-Compulsive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st-Traumatic Stress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xiety Disorder 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003A-8808-4C19-8E7D-7F5A746E4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ID Cr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ritics argue that the diagnosis of DID increased in the lat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 Linotyp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century. DID has not been found in other cou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685960" y="3505320"/>
            <a:ext cx="3741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itics’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447920" y="4152960"/>
            <a:ext cx="69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ole-playing by people open to a therapist’s sugg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447920" y="5295960"/>
            <a:ext cx="62481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arned response that reinforces reductions in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B7E6-56FB-4DBA-B1E7-0C6F4F541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0840" y="1595160"/>
            <a:ext cx="593856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Mood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jor Depressive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ood Disorder 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Schizophre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 of Schizophr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ubtypes of Schizophr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6A97-252E-4329-9B99-292CB3008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0840" y="1595160"/>
            <a:ext cx="593856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Schizophre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Schizophr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ersonality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Rates of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1C4C-060E-4278-9E2A-0918BCD9F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 felt the need to clean my room … spent four to five hour at it … At the time I loved it but then didn't want to do it any more, but could not stop … The clothes hung … two fingers apart …I touched my bedroom wall before leaving the house … I had constant anxiety … I thought I might be n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5800" y="40384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Marc, diagnos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bsessive-compulsive dis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from Summers, 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C524-27DE-446F-BDB3-C6F0ACFC3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ople are fascinated by the exceptional, the unusual, and the abnormal. This fascination may be caused by two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71400" y="35053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uring various moments we feel, think, and act like an abnormal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sychological disorders may bring unexplained physical symptoms, irrational fears, and suicidal thou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FF81-DDE5-49F5-B9F3-41715D4E7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study the abnormal is the best way of understanding the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71400" y="35053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re are 450 million people suffering from psychological disorders (WHO, 20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pression and schizophrenia exist in all cultures of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85800" y="257184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William James (1842-19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</dc:creator>
  <dc:description/>
  <dc:language>en-US</dc:language>
  <cp:lastModifiedBy>dpark</cp:lastModifiedBy>
  <dcterms:modified xsi:type="dcterms:W3CDTF">2010-04-29T18:20:02Z</dcterms:modified>
  <cp:revision>1242</cp:revision>
  <dc:subject/>
  <dc:title>Memory</dc:title>
</cp:coreProperties>
</file>